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7.png" ContentType="image/png"/>
  <Override PartName="/ppt/media/image1.jpeg" ContentType="image/jpeg"/>
  <Override PartName="/ppt/media/image10.wmf" ContentType="image/x-wmf"/>
  <Override PartName="/ppt/media/image6.png" ContentType="image/png"/>
  <Override PartName="/ppt/media/image23.png" ContentType="image/png"/>
  <Override PartName="/ppt/media/image22.wmf" ContentType="image/x-wmf"/>
  <Override PartName="/ppt/media/image5.wmf" ContentType="image/x-wmf"/>
  <Override PartName="/ppt/media/image21.png" ContentType="image/png"/>
  <Override PartName="/ppt/media/image3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Click to move the slide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6BC89-D3AD-46B1-AADD-62F8972E8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llege Alge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f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James Stewart  Lothar Redlin  Saleem Wat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ge Alge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Stewart  Lothar Redlin  Saleem Wat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y special attention to Rules 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 3 says that we can multiply (or divide) each side of an inequality by a positive numb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Rule 4 says that, if we multiply eac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of an inequality by a negative number, then we reverse the direction of the ine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y special attention to Rules 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 3 says that we can multiply (or divide) each side of an inequality by a positive numb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Rule 4 says that, if we multiply eac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of an inequality by a negative number, then we reverse the direction of the ine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if we start with the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&lt;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ultiply by 2, we ge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&lt;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if we multiply by –2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get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6 &gt; –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if we start with the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&lt;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ultiply by 2, we ge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&lt;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if we multiply by –2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get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6 &gt; –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lving 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equality is linear if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erm is constant or a multi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vari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a linear inequality, w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late the variable on one si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inequality 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equality is linear if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erm is constant or a multi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vari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a linear inequality, w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late the variable on one si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inequality 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1—Solving a Linear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inequalit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&lt; 9x + 4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ketch the solution s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1—Solving a Linear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inequalit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&lt; 9x + 4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ketch the solution s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1—Solving a Linear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&lt; 9x +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– 9x &lt; 9x + 4 – 9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ubtract 9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x &lt; 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implif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–1/6)(–6x) &gt; (–1/6)(4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ultiply by –1/6 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ivide by –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&gt; –2/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implif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set consists of all number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er than –2/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1—Solving a Linear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&lt; 9x +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– 9x &lt; 9x + 4 – 9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ubtract 9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x &lt; 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implif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–1/6)(–6x) &gt; (–1/6)(4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ultiply by –1/6 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ivide by –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&gt; –2/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implif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set consists of all number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er than –2/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1—Solving a Linear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the solution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equality is the interval (–2/3, ∞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1—Solving a Linear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the solution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equality is the interval (–2/3, ∞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2—Solving a Pair of Simultaneous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inequaliti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≤ 3x – 2 &lt;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set consists of all values of x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satisfy both of the inequalities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≤ 3x – 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– 2 &lt;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2—Solving a Pair of Simultaneous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inequaliti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≤ 3x – 2 &lt;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set consists of all values of x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satisfy both of the inequalities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≤ 3x – 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– 2 &lt;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2—Solving a Pair of Simultaneous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Rules 1 and 3, we see th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inequalities are equivalen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≤ 3x – 2 &lt;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≤ 3x &lt; 1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(Add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≤ x &lt; 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ivide by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2—Solving a Pair of Simultaneous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Rules 1 and 3, we see th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inequalities are equivalen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≤ 3x – 2 &lt;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≤ 3x &lt; 1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(Add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≤ x &lt; 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ivide by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2—Solving a Pair of Simultaneous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the solution set i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2,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2—Solving a Pair of Simultaneous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the solution set i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2,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quations and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ions and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inequalities involving squares and other powers, we use factoring, together with the following princip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inequalities involving squares and other powers, we use factoring, together with the following princip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gn of a Product or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product or a quotient has an even number of negative factors, then its value is posit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product or a quotient has an odd number of negative factors, then its value is negat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gn of a Product or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product or a quotient has an even number of negative factors, then its value is posit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product or a quotient has an odd number of negative factors, then its value is negat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to solve the inequalit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– 5x ≤ –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first move all the terms to the left-hand side and factor to ge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(x – 2)(x – 3) ≤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orm of the inequality says that the produc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(x – 3) must be negative or ze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to solve the inequalit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– 5x ≤ –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first move all the terms to the left-hand side and factor to ge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(x – 2)(x – 3) ≤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orm of the inequality says that the produc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(x – 3) must be negative or ze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o solve the inequality, we must determine where each factor is negative or posi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because the sign of a product depends on the sign of the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tails are explained in Example 3, in which we use the following guideli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o solve the inequality, we must determine where each factor is negative or posi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because the sign of a product depends on the sign of the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tails are explained in Example 3, in which we use the following guideli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s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3 illustrates the following guidelines for solving an inequality th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facto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all terms to one 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table or dia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s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3 illustrates the following guidelines for solving an inequality th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facto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all terms to one 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table or dia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 1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all terms to one s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necessary, rewrite the inequality so th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nonzero terms appear on one side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equality 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nonzero side of the inequality involves quotients, bring them to a common denominat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 1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all terms to one s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necessary, rewrite the inequality so th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nonzero terms appear on one side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equality 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nonzero side of the inequality involves quotients, bring them to a common denominat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 2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the nonzero side of the ine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 2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the nonzero side of the ine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 3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values for which each factor is ze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numbers will divide the real line into 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the intervals determined by these numb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 3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values for which each factor is ze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numbers will divide the real line into 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the intervals determined by these numb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 4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table or diagr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est values to make a table or diagra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igns of each factor on each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last row of the table, determine the sig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product (or quotient) of these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 4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table or diagr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est values to make a table or diagra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igns of each factor on each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last row of the table, determine the sig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product (or quotient) of these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 5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solution of the inequality fro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st row of the sign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sure to check whether the inequality is satisfied by some or all of the endpoints of the 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ay happen if the inequality involves ≤ or ≥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 5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solution of the inequality fro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st row of the sign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sure to check whether the inequality is satisfied by some or all of the endpoints of the 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ay happen if the inequality involves ≤ or ≥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s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ing technique described in these guidelines works only if all nonzero terms appear on one side of the inequality symbo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inequality is not written in this form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rewrite it—as indicated in Step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s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ing technique described in these guidelines works only if all nonzero terms appear on one side of the inequality symbo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inequality is not written in this form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rewrite it—as indicated in Step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inequa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≤ 5x –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move all the terms to the left-hand si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– 5x + 6 ≤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ng the left side of the inequality, we ge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(x – 3) ≤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inequa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≤ 5x –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move all the terms to the left-hand si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– 5x + 6 ≤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ng the left side of the inequality, we ge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(x – 3) ≤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s of the left-hand side a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– 2 and x –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actors are zero when x is 2 and 3, respectiv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s of the left-hand side a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– 2 and x –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actors are zero when x is 2 and 3, respectiv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shown, the numbers 2 and 3 divide the real line into three interval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-∞, 2), (2, 3), (3, 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shown, the numbers 2 and 3 divide the real line into three interval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-∞, 2), (2, 3), (3, 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s x – 2 and x – 3 change sign only at 2 and 3, respectiv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they maintain their signs over the length of each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s x – 2 and x – 3 change sign only at 2 and 3, respectiv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they maintain their signs over the length of each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each interval, we determine the signs of the factors using test valu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hoose a number inside each interva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heck the sign of the factors x – 2 and x – 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value se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each interval, we determine the signs of the factors using test valu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hoose a number inside each interva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heck the sign of the factors x – 2 and x – 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value se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instance, let’s use the test valu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1 for the interval (-∞, 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instance, let’s use the test valu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1 for the interval (-∞, 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substitution in the factors x – 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x – 3 giv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– 2 = 1 – 2 = –1 &lt; 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– 3 = 1 – 3 = –2 &lt; 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both factors are negative on this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at we need to check only one test value for each interval because the factors x – 2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– 3 do not change sign on any of the three intervals we f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substitution in the factors x – 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x – 3 giv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– 2 = 1 – 2 = –1 &lt; 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– 3 = 1 – 3 = –2 &lt; 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both factors are negative on this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at we need to check only one test value for each interval because the factors x – 2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– 3 do not change sign on any of the three intervals we f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the test values x = 2½ and x = 4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tervals (2, 3) and (3, ∞), respectively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truct the following sign tab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the test values x = 2½ and x = 4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tervals (2, 3) and (3, ∞), respectively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truct the following sign tab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roblems in algebra lead to inequalities instead of equ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equality looks just like an equation—except that, in the place of the equal sig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one of these symbols: &lt;, &gt;, ≤, or ≥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an example: 4x + 7 ≤ 1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roblems in algebra lead to inequalities instead of equ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equality looks just like an equation—except that, in the place of the equal sig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one of these symbols: &lt;, &gt;, ≤, or ≥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an example: 4x + 7 ≤ 1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nal row is obtained from the fac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the expression in the last row i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of the two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nal row is obtained from the fac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the expression in the last row i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of the two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prefer, you can represent that information on a real number line—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sign diagr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rtical lines indicate the points at whic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line is divided into 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prefer, you can represent that information on a real number line—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sign diagr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rtical lines indicate the points at whic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line is divided into 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read from the table or the diagram that (x – 2)(x – 3) is negative on the interva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, 3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read from the table or the diagram that (x – 2)(x – 3) is negative on the interva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, 3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, the solution of the inequalit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(x – 3) ≤ 0 i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x | 2 ≤ x ≤ 3} = [2, 3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included the endpoints 2 and 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we seek values of x such th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is either less than or equal to ze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, the solution of the inequalit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(x – 3) ≤ 0 i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x | 2 ≤ x ≤ 3} = [2, 3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included the endpoints 2 and 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we seek values of x such th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is either less than or equal to ze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is illustrat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is illustrat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4—Solving an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inequa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2 – x &gt;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move all the terms to the left-hand si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2 – x – 1 &g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ng the left side of the inequality, we ge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x + 1)(x – 1) &g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4—Solving an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inequa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2 – x &gt;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move all the terms to the left-hand si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2 – x – 1 &g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ng the left side of the inequality, we ge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x + 1)(x – 1) &g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4—Solving an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s of the left-hand side a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 + 1 and x –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actors are zero when x is –1/2 and 1, respectiv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numbers divide the real line into the interv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–∞, –1/2), (–1/2, 1), (1, 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4—Solving an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s of the left-hand side a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 + 1 and x –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actors are zero when x is –1/2 and 1, respectiv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numbers divide the real line into the interv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–∞, –1/2), (–1/2, 1), (1, 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4—Solving an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make the following diagram, using test points to determine the sign of each factor in each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4—Solving an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make the following diagram, using test points to determine the sign of each factor in each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4—Solving an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diagram, we see th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x + 1)(x – 1) &g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x in the interval (–∞, –1/2) or (1, ∞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solution set is the union of these two interval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–∞, –1/2)U(1, 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4—Solving an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diagram, we see th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x + 1)(x – 1) &g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x in the interval (–∞, –1/2) or (1, ∞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solution set is the union of these two interval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–∞, –1/2)U(1, 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4—Solving an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is illustrat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4—Solving an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is illustrat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ble shows that some numbers satisfy the inequality and some numbers don’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ble shows that some numbers satisfy the inequality and some numbers don’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5—Solving an Inequality with Repeated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inequa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(x – 1)2(x – 3) &l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nonzero terms are already on one side of the ine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 the nonzero side of the inequality is already facto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e begin by finding the intervals for this ine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5—Solving an Inequality with Repeated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inequa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(x – 1)2(x – 3) &l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nonzero terms are already on one side of the ine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 the nonzero side of the inequality is already facto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e begin by finding the intervals for this ine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5—Solving an Inequality with Repeated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s of the left-hand side a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, (x – 1)2, and x –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actors are zero when x = 0, 1,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numbers divide the real line into the interv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–∞, 0), (0, 1), (1, 3), (3, 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5—Solving an Inequality with Repeated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s of the left-hand side a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, (x – 1)2, and x –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actors are zero when x = 0, 1,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numbers divide the real line into the interv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–∞, 0), (0, 1), (1, 3), (3, 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5—Solving an Inequality with Repeated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make the following diagram, using test points to determine the sign of each factor in each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5—Solving an Inequality with Repeated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make the following diagram, using test points to determine the sign of each factor in each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5—Solving an Inequality with Repeated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diagram, we see th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x(x – 1)2(x – 3) &l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x in the interval (0, 1) or (1, 3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solution set is the union of these two interval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0, 1)U(1,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5—Solving an Inequality with Repeated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diagram, we see th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x(x – 1)2(x – 3) &l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x in the interval (0, 1) or (1, 3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solution set is the union of these two interval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0, 1)U(1,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5—Solving an Inequality with Repeated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is illustrat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5—Solving an Inequality with Repeated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is illustrat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move all nonzero terms to the left 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we simplify using a common denomin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move all nonzero terms to the left 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we simplify using a common denomin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s of the left-hand side are 2x and 1 – 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zero when x is 0 and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numbers divide the real line into the interv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–∞, 0), (0, 1), (1, 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s of the left-hand side are 2x and 1 – 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zero when x is 0 and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numbers divide the real line into the interv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–∞, 0), (0, 1), (1, 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make the following diagram using test points to determine the sign of each factor in each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that the solution set i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0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make the following diagram using test points to determine the sign of each factor in each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that the solution set i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0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include the endpoint 0 as the original inequality requires the quotient to be greater than or equal to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we do not include the endpoint 1, since the quotient in the inequality is not defined at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check the endpoints of solution interval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etermine whether they satisfy the original ine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include the endpoint 0 as the original inequality requires the quotient to be greater than or equal to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we do not include the endpoint 1, since the quotient in the inequality is not defined at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check the endpoints of solution interval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etermine whether they satisfy the original ine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an inequality that contains a variable means to find all values of the variable that make the inequality tru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ike an equation, an inequality generall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infinitely many solu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orm an interval or a union of interval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real li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an inequality that contains a variable means to find all values of the variable that make the inequality tru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ike an equation, an inequality generall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infinitely many solu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orm an interval or a union of interval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real li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set [0, 1) is illustrat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set [0, 1) is illustrat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with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deling with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with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real-life problems frequently leads to inequal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often interested in determining when one quantity is more (or less) than another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with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real-life problems frequently leads to inequal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often interested in determining when one quantity is more (or less) than another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7—Carnival T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rnival has two plans for ticke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A:  $5 entrance fee and 25¢ each r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B: $2 entrance fee and 50¢ each rid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rides would you have to tak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plan A to be less expensive than plan B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7—Carnival T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rnival has two plans for ticke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A:  $5 entrance fee and 25¢ each r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B: $2 entrance fee and 50¢ each rid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rides would you have to tak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plan A to be less expensive than plan B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7—Carnival T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asked for the number of rid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which plan A is less expensive than plan B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let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number of r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7—Carnival T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asked for the number of rid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which plan A is less expensive than plan B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let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number of r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7—Carnival T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formation in the problem may be organized as follo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7—Carnival T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formation in the problem may be organized as follo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7—Carnival T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we set up the mod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 with plan A &lt; Cost with plan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+ 0.25x &lt; 2 + 0.50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+ 0.25x &lt; 0.50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ubtract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&lt; 0.25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ubtract 0.25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&lt; 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ivide by 0.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if you plan to take more than 12 ride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A is less expens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7—Carnival T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we set up the mod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 with plan A &lt; Cost with plan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+ 0.25x &lt; 2 + 0.50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+ 0.25x &lt; 0.50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ubtract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&lt; 0.25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ubtract 0.25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&lt; 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ivide by 0.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if you plan to take more than 12 ride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A is less expens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8—Fahrenheit and Celsius S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tructions on a box of film indicate that the box should be stored at a temperature between 5°C and 30°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range of temperatures does this correspond to on the Fahrenheit sca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8—Fahrenheit and Celsius S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tructions on a box of film indicate that the box should be stored at a temperature between 5°C and 30°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range of temperatures does this correspond to on the Fahrenheit sca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8—Fahrenheit and Celsius S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lationship between degrees Celsius (C) and degrees Fahrenheit (F) is give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= 5/9(F – 3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ng the statement on the box in term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inequalities, we have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&lt; C &lt; 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8—Fahrenheit and Celsius S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lationship between degrees Celsius (C) and degrees Fahrenheit (F) is give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= 5/9(F – 3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ng the statement on the box in term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inequalities, we have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&lt; C &lt; 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8—Fahrenheit and Celsius S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the corresponding Fahrenheit temperatures satisfy the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8—Fahrenheit and Celsius S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the corresponding Fahrenheit temperatures satisfy the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illustration shows how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equality differs from its corresponding equa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illustration shows how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equality differs from its corresponding equa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8—Fahrenheit and Celsius S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, the film should be stored 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emperature between 41°F and 86°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8—Fahrenheit and Celsius S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, the film should be stored 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emperature between 41°F and 86°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inequalities, we use the following rules to isolate the variable on one sid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inequality sig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rules tell us when two inequaliti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equivalent (      means “is equivalent to”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se rules, the symbols A, B, and C stan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real numbers or algebraic expres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inequalities, we use the following rules to isolate the variable on one sid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inequality sig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rules tell us when two inequaliti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equivalent (      means “is equivalent to”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se rules, the symbols A, B, and C stan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real numbers or algebraic expres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, we state the rules for inequalities involving the symbol ≤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they apply to all four inequality symbo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, we state the rules for inequalities involving the symbol ≤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they apply to all four inequality symbo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84582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85360" y="3983400"/>
            <a:ext cx="84582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4127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19400" y="923760"/>
            <a:ext cx="4127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85360" y="3983400"/>
            <a:ext cx="4127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19400" y="3983400"/>
            <a:ext cx="4127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2723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45200" y="923760"/>
            <a:ext cx="2723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05400" y="923760"/>
            <a:ext cx="2723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85360" y="3983400"/>
            <a:ext cx="2723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45200" y="3983400"/>
            <a:ext cx="2723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05400" y="3983400"/>
            <a:ext cx="2723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8536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412740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19400" y="923760"/>
            <a:ext cx="412740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61760" y="304560"/>
            <a:ext cx="69339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4127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19400" y="923760"/>
            <a:ext cx="412740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85360" y="3983400"/>
            <a:ext cx="4127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412740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9400" y="923760"/>
            <a:ext cx="4127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19400" y="3983400"/>
            <a:ext cx="4127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4127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19400" y="923760"/>
            <a:ext cx="4127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85360" y="3983400"/>
            <a:ext cx="84582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" descr="Stewart0495565210_pp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8536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lnSpc>
                <a:spcPct val="120000"/>
              </a:lnSpc>
              <a:spcBef>
                <a:spcPts val="799"/>
              </a:spcBef>
              <a:buClr>
                <a:srgbClr val="b94a3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799"/>
              </a:spcBef>
              <a:buClr>
                <a:srgbClr val="a2742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2666880" y="1592280"/>
            <a:ext cx="6477120" cy="31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1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d963d"/>
                </a:solidFill>
                <a:latin typeface="Arial"/>
              </a:rPr>
              <a:t>College Algebra</a:t>
            </a:r>
            <a:endParaRPr b="0" lang="en-US" sz="6600" spc="-1" strike="noStrike">
              <a:solidFill>
                <a:srgbClr val="61271d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Fifth Edition</a:t>
            </a:r>
            <a:endParaRPr b="0" lang="en-US" sz="2800" spc="-1" strike="noStrike">
              <a:solidFill>
                <a:srgbClr val="61271d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94a37"/>
                </a:solidFill>
                <a:latin typeface="Arial"/>
              </a:rPr>
              <a:t>James Stewart</a:t>
            </a:r>
            <a:r>
              <a:rPr b="0" lang="en-US" sz="2000" spc="-1" strike="noStrike">
                <a:solidFill>
                  <a:srgbClr val="8b372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cd963d"/>
                </a:solidFill>
                <a:latin typeface="Wingdings"/>
                <a:ea typeface="Wingdings"/>
              </a:rPr>
              <a:t></a:t>
            </a:r>
            <a:r>
              <a:rPr b="0" lang="en-US" sz="2000" spc="-1" strike="noStrike">
                <a:solidFill>
                  <a:srgbClr val="8b372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94a37"/>
                </a:solidFill>
                <a:latin typeface="Arial"/>
              </a:rPr>
              <a:t>Lothar Redlin</a:t>
            </a:r>
            <a:r>
              <a:rPr b="0" lang="en-US" sz="2000" spc="-1" strike="noStrike">
                <a:solidFill>
                  <a:srgbClr val="8b372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cd963d"/>
                </a:solidFill>
                <a:latin typeface="Wingdings"/>
                <a:ea typeface="Wingdings"/>
              </a:rPr>
              <a:t></a:t>
            </a:r>
            <a:r>
              <a:rPr b="0" lang="en-US" sz="2000" spc="-1" strike="noStrike">
                <a:solidFill>
                  <a:srgbClr val="8b372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94a37"/>
                </a:solidFill>
                <a:latin typeface="Arial"/>
              </a:rPr>
              <a:t>Saleem Watson</a:t>
            </a:r>
            <a:endParaRPr b="0" lang="en-US" sz="18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Solving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25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Pay special attention to Rules 3 </a:t>
            </a:r>
            <a:br>
              <a:rPr sz="4000"/>
            </a:b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and 4. 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Rule 3 says that we can multiply (or divide) each side of an inequality by a positive number. 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However, Rule 4 says that, if we multiply each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side of an inequality by a negative number, then we reverse the direction of the inequality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Solving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5692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For example, if we start with the inequality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3 &lt; 5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and multiply by 2, we get: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6 &lt; 10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700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However, if we multiply by –2, </a:t>
            </a:r>
            <a:br>
              <a:rPr sz="2800"/>
            </a:b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we get: </a:t>
            </a:r>
            <a:br>
              <a:rPr sz="2800"/>
            </a:b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 –6 &gt; –10</a:t>
            </a: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805040" y="3057120"/>
            <a:ext cx="7338960" cy="10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94a37"/>
                </a:solidFill>
                <a:latin typeface="Arial"/>
              </a:rPr>
              <a:t>Solving Linear Inequalities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6920" y="8571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271d"/>
                </a:solidFill>
                <a:latin typeface="Arial"/>
              </a:rPr>
              <a:t>An inequality is linear if:</a:t>
            </a:r>
            <a:endParaRPr b="0" lang="en-US" sz="4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79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4a37"/>
                </a:solidFill>
                <a:latin typeface="Arial"/>
              </a:rPr>
              <a:t>Each term is constant or a multiple </a:t>
            </a:r>
            <a:br>
              <a:rPr sz="3200"/>
            </a:br>
            <a:r>
              <a:rPr b="0" lang="en-US" sz="3200" spc="-1" strike="noStrike">
                <a:solidFill>
                  <a:srgbClr val="b94a37"/>
                </a:solidFill>
                <a:latin typeface="Arial"/>
              </a:rPr>
              <a:t>of the variable.</a:t>
            </a:r>
            <a:endParaRPr b="0" lang="en-US" sz="32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79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4a37"/>
                </a:solidFill>
                <a:latin typeface="Arial"/>
              </a:rPr>
              <a:t>To solve a linear inequality, we</a:t>
            </a:r>
            <a:br>
              <a:rPr sz="3200"/>
            </a:br>
            <a:r>
              <a:rPr b="0" lang="en-US" sz="3200" spc="-1" strike="noStrike">
                <a:solidFill>
                  <a:srgbClr val="b94a37"/>
                </a:solidFill>
                <a:latin typeface="Arial"/>
              </a:rPr>
              <a:t>isolate the variable on one side</a:t>
            </a:r>
            <a:br>
              <a:rPr sz="3200"/>
            </a:br>
            <a:r>
              <a:rPr b="0" lang="en-US" sz="3200" spc="-1" strike="noStrike">
                <a:solidFill>
                  <a:srgbClr val="b94a37"/>
                </a:solidFill>
                <a:latin typeface="Arial"/>
              </a:rPr>
              <a:t>of the inequality sign.</a:t>
            </a:r>
            <a:endParaRPr b="0" lang="en-US" sz="32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1—Solving a Linear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569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Solve the inequality </a:t>
            </a:r>
            <a:br>
              <a:rPr sz="4000"/>
            </a:b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3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 &lt;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9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 +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4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and sketch the solution set.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1—Solving a Linear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3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&lt; 9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+ 4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3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– 9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&lt; 9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+ 4 – 9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(Subtract 9</a:t>
            </a:r>
            <a:r>
              <a:rPr b="0" i="1" lang="en-US" sz="24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           –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6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&lt; 4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(Simplify)</a:t>
            </a:r>
            <a:endParaRPr b="0" lang="en-US" sz="24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(–1/6)(–6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) &gt; (–1/6)(4)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(Multiply by –1/6 or </a:t>
            </a:r>
            <a:br>
              <a:rPr sz="2400"/>
            </a:b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 divide by –6)</a:t>
            </a:r>
            <a:endParaRPr b="0" lang="en-US" sz="24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                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&gt; –2/3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(Simplify)</a:t>
            </a:r>
            <a:endParaRPr b="0" lang="en-US" sz="2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 solution set consists of all numbers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greater than –2/3. 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1—Solving a Linear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25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1271d"/>
                </a:solidFill>
                <a:latin typeface="Arial"/>
              </a:rPr>
              <a:t>In other words, the solution of </a:t>
            </a:r>
            <a:br>
              <a:rPr sz="3800"/>
            </a:br>
            <a:r>
              <a:rPr b="0" lang="en-US" sz="3800" spc="-1" strike="noStrike">
                <a:solidFill>
                  <a:srgbClr val="61271d"/>
                </a:solidFill>
                <a:latin typeface="Arial"/>
              </a:rPr>
              <a:t>the inequality is the interval (–2/3, </a:t>
            </a:r>
            <a:r>
              <a:rPr b="0" lang="en-US" sz="3800" spc="-1" strike="noStrike">
                <a:solidFill>
                  <a:srgbClr val="61271d"/>
                </a:solidFill>
                <a:latin typeface="Arial"/>
                <a:ea typeface="Arial"/>
              </a:rPr>
              <a:t>∞)</a:t>
            </a:r>
            <a:r>
              <a:rPr b="0" lang="en-US" sz="3800" spc="-1" strike="noStrike">
                <a:solidFill>
                  <a:srgbClr val="61271d"/>
                </a:solidFill>
                <a:latin typeface="Arial"/>
              </a:rPr>
              <a:t>.</a:t>
            </a:r>
            <a:endParaRPr b="0" lang="en-US" sz="38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2995560" y="4033800"/>
            <a:ext cx="5962680" cy="262908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838188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2—Solving a Pair of Simultaneous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569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Solve the inequalities </a:t>
            </a:r>
            <a:br>
              <a:rPr sz="4000"/>
            </a:b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4 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  <a:ea typeface="Arial"/>
              </a:rPr>
              <a:t>≤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3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 –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2 &lt; 13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700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 solution set consists of all values of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at satisfy both of the inequalities 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4 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  <a:ea typeface="Arial"/>
              </a:rPr>
              <a:t>≤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 3</a:t>
            </a:r>
            <a:r>
              <a:rPr b="0" i="1" lang="en-US" sz="2800" spc="-1" strike="noStrike">
                <a:solidFill>
                  <a:srgbClr val="b94a37"/>
                </a:solidFill>
                <a:latin typeface="Arial"/>
              </a:rPr>
              <a:t>x –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 2 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and 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3</a:t>
            </a:r>
            <a:r>
              <a:rPr b="0" i="1" lang="en-US" sz="2800" spc="-1" strike="noStrike">
                <a:solidFill>
                  <a:srgbClr val="b94a37"/>
                </a:solidFill>
                <a:latin typeface="Arial"/>
              </a:rPr>
              <a:t>x –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 2 &lt; 13</a:t>
            </a: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2—Solving a Pair of Simultaneous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569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Using Rules 1 and 3, we see that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these inequalities are equivalent: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  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4 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≤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 3</a:t>
            </a:r>
            <a:r>
              <a:rPr b="0" i="1" lang="en-US" sz="3400" spc="-1" strike="noStrike">
                <a:solidFill>
                  <a:srgbClr val="61271d"/>
                </a:solidFill>
                <a:latin typeface="Arial"/>
              </a:rPr>
              <a:t>x –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 2 &lt; 13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 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6 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≤ 3</a:t>
            </a:r>
            <a:r>
              <a:rPr b="0" i="1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x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 &lt; 15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  <a:ea typeface="Arial"/>
              </a:rPr>
              <a:t>(Add 2)</a:t>
            </a:r>
            <a:endParaRPr b="0" lang="en-US" sz="24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  <a:ea typeface="Arial"/>
              </a:rPr>
              <a:t>	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2 ≤ </a:t>
            </a:r>
            <a:r>
              <a:rPr b="0" i="1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x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 &lt; 5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  <a:ea typeface="Arial"/>
              </a:rPr>
              <a:t>(Divide by 3)</a:t>
            </a:r>
            <a:endParaRPr b="0" lang="en-US" sz="24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2—Solving a Pair of Simultaneous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713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Therefore, the solution set is </a:t>
            </a:r>
            <a:br>
              <a:rPr sz="4000"/>
            </a:b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[2, 5)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2895480" y="4167360"/>
            <a:ext cx="6034320" cy="248112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514240" y="2057400"/>
            <a:ext cx="6172200" cy="31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b94a37"/>
                </a:solidFill>
                <a:latin typeface="Arial"/>
              </a:rPr>
              <a:t>Equations and Inequalities</a:t>
            </a:r>
            <a:endParaRPr b="0" lang="en-US" sz="7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990720" y="2598840"/>
            <a:ext cx="1447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cd963d"/>
                </a:solidFill>
                <a:latin typeface="Arial"/>
              </a:rPr>
              <a:t>1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805040" y="3057120"/>
            <a:ext cx="7338960" cy="10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94a37"/>
                </a:solidFill>
                <a:latin typeface="Arial"/>
              </a:rPr>
              <a:t>Solving Nonlinear Inequalities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Non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8536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To solve inequalities involving squares and other powers, we use factoring, together with the following principle. </a:t>
            </a:r>
            <a:endParaRPr b="0" lang="en-US" sz="36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The Sign of a Product or Quotient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4252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If a product or a quotient has an even number of negative factors, then its value is positive. 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If a product or a quotient has an odd number of negative factors, then its value is negative. 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Solving Non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For example, to solve the inequality</a:t>
            </a:r>
            <a:br>
              <a:rPr sz="3200"/>
            </a:b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61271d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– 5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  <a:ea typeface="Arial"/>
              </a:rPr>
              <a:t>≤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–6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We first move all the terms to the left-hand side and factor to get</a:t>
            </a:r>
            <a:br>
              <a:rPr sz="3200"/>
            </a:b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      (x – 2)(x – 3)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  <a:ea typeface="Arial"/>
              </a:rPr>
              <a:t>≤ 0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This form of the inequality says that the product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(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x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 – 2)(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x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 – 3) must be negative or zero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Solving Non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So to solve the inequality, we must determine where each factor is negative or positive.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This is because the sign of a product depends on the sign of the factors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The details are explained in Example 3, in which we use the following guidelines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Guidelines for Solving Non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569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Example 3 illustrates the following guidelines for solving an inequality that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can be factored.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lvl="1" marL="11764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  <a:p>
            <a:pPr lvl="1" marL="1176480" indent="-495360">
              <a:spcBef>
                <a:spcPts val="700"/>
              </a:spcBef>
              <a:buClr>
                <a:srgbClr val="b94a3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Move all terms to one side.</a:t>
            </a: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  <a:p>
            <a:pPr lvl="1" marL="1176480" indent="-495360">
              <a:spcBef>
                <a:spcPts val="700"/>
              </a:spcBef>
              <a:buClr>
                <a:srgbClr val="b94a3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Factor.</a:t>
            </a: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  <a:p>
            <a:pPr lvl="1" marL="1176480" indent="-495360">
              <a:spcBef>
                <a:spcPts val="700"/>
              </a:spcBef>
              <a:buClr>
                <a:srgbClr val="b94a3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Find the intervals.</a:t>
            </a: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  <a:p>
            <a:pPr lvl="1" marL="1176480" indent="-495360">
              <a:spcBef>
                <a:spcPts val="700"/>
              </a:spcBef>
              <a:buClr>
                <a:srgbClr val="b94a3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Make a table or diagram.</a:t>
            </a: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  <a:p>
            <a:pPr lvl="1" marL="1176480" indent="-495360">
              <a:spcBef>
                <a:spcPts val="700"/>
              </a:spcBef>
              <a:buClr>
                <a:srgbClr val="b94a3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Solve.</a:t>
            </a: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Guideline 1 for Solving Non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42520" y="82404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1271d"/>
                </a:solidFill>
                <a:latin typeface="Arial"/>
              </a:rPr>
              <a:t>Move all terms to one side. </a:t>
            </a:r>
            <a:endParaRPr b="0" lang="en-US" sz="48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If necessary, rewrite the inequality so that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all nonzero terms appear on one side of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 inequality sign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If the nonzero side of the inequality involves quotients, bring them to a common denominator. 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Guideline 2 for Solving Non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28120" y="79524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1271d"/>
                </a:solidFill>
                <a:latin typeface="Arial"/>
              </a:rPr>
              <a:t>Factor.</a:t>
            </a:r>
            <a:endParaRPr b="0" lang="en-US" sz="54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79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4a37"/>
                </a:solidFill>
                <a:latin typeface="Arial"/>
              </a:rPr>
              <a:t>Factor the nonzero side of the inequality.</a:t>
            </a:r>
            <a:endParaRPr b="0" lang="en-US" sz="32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Guideline 3 for Solving Non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42520" y="82404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1271d"/>
                </a:solidFill>
                <a:latin typeface="Arial"/>
              </a:rPr>
              <a:t>Find the intervals.</a:t>
            </a:r>
            <a:endParaRPr b="0" lang="en-US" sz="48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Determine the values for which each factor is zero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se numbers will divide the real line into intervals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List the intervals determined by these numbers. 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Guideline 4 for Solving Non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42520" y="82404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1271d"/>
                </a:solidFill>
                <a:latin typeface="Arial"/>
              </a:rPr>
              <a:t>Make a table or diagram. </a:t>
            </a:r>
            <a:endParaRPr b="0" lang="en-US" sz="48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Use test values to make a table or diagram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of the signs of each factor on each interval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In the last row of the table, determine the sign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of the product (or quotient) of these factors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514240" y="358092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94a37"/>
                </a:solidFill>
                <a:latin typeface="Arial"/>
              </a:rPr>
              <a:t>Inequalities</a:t>
            </a:r>
            <a:endParaRPr b="0" lang="en-US" sz="48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990720" y="3565440"/>
            <a:ext cx="144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d963d"/>
                </a:solidFill>
                <a:latin typeface="Arial"/>
              </a:rPr>
              <a:t>1.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Guideline 5 for Solving Non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56920" y="80964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1271d"/>
                </a:solidFill>
                <a:latin typeface="Arial"/>
              </a:rPr>
              <a:t>Solve.</a:t>
            </a:r>
            <a:endParaRPr b="0" lang="en-US" sz="5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Determine the solution of the inequality from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 last row of the sign table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Be sure to check whether the inequality is satisfied by some or all of the endpoints of the intervals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is may happen if the inequality involves 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≤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or 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≥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Guidelines for Solving Non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The factoring technique described in these guidelines works only if all nonzero terms appear on one side of the inequality symbol. 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If the inequality is not written in this form,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first rewrite it—as indicated in Step 1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569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Solve the inequality 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 baseline="30000">
                <a:solidFill>
                  <a:srgbClr val="61271d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  <a:ea typeface="Arial"/>
              </a:rPr>
              <a:t>≤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5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 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–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First, we move all the terms to the left-hand side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600" spc="-1" strike="noStrike" baseline="30000">
                <a:solidFill>
                  <a:srgbClr val="b94a37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– 5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+ 6 ≤ 0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Factoring the left side of the inequality, we get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(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 –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2)(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 –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3) 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≤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0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569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The factors of the left-hand side are</a:t>
            </a:r>
            <a:br>
              <a:rPr sz="4000"/>
            </a:b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– 2 and 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– 3.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se factors are zero when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is 2 and 3, respectively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713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As shown, the numbers 2 and 3 divide the real line into three intervals: </a:t>
            </a:r>
            <a:br>
              <a:rPr sz="3600"/>
            </a:b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(-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  <a:ea typeface="Arial"/>
              </a:rPr>
              <a:t>∞, 2)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, (2, 3), (3, 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  <a:ea typeface="Arial"/>
              </a:rPr>
              <a:t>∞)</a:t>
            </a:r>
            <a:endParaRPr b="0" lang="en-US" sz="36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118" name="Picture 6" descr=""/>
          <p:cNvPicPr/>
          <p:nvPr/>
        </p:nvPicPr>
        <p:blipFill>
          <a:blip r:embed="rId1"/>
          <a:stretch/>
        </p:blipFill>
        <p:spPr>
          <a:xfrm>
            <a:off x="2557440" y="4172040"/>
            <a:ext cx="6381720" cy="248580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The factors 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 –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2 and 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 –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3 change sign only at 2 and 3, respectively.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So, they maintain their signs over the length of each interval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713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On each interval, we determine the signs of the factors using test values. </a:t>
            </a:r>
            <a:endParaRPr b="0" lang="en-US" sz="36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We choose a number inside each interval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and check the sign of the factors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 –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2 and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 –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3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at the value selected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2557440" y="4172040"/>
            <a:ext cx="6381720" cy="248580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25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1271d"/>
                </a:solidFill>
                <a:latin typeface="Arial"/>
              </a:rPr>
              <a:t>For instance, let’s use the test value </a:t>
            </a:r>
            <a:br>
              <a:rPr sz="3800"/>
            </a:br>
            <a:r>
              <a:rPr b="0" i="1" lang="en-US" sz="3800" spc="-1" strike="noStrike">
                <a:solidFill>
                  <a:srgbClr val="61271d"/>
                </a:solidFill>
                <a:latin typeface="Arial"/>
              </a:rPr>
              <a:t>x =</a:t>
            </a:r>
            <a:r>
              <a:rPr b="0" lang="en-US" sz="3800" spc="-1" strike="noStrike">
                <a:solidFill>
                  <a:srgbClr val="61271d"/>
                </a:solidFill>
                <a:latin typeface="Arial"/>
              </a:rPr>
              <a:t> 1 for the interval (-</a:t>
            </a:r>
            <a:r>
              <a:rPr b="0" lang="en-US" sz="3800" spc="-1" strike="noStrike">
                <a:solidFill>
                  <a:srgbClr val="61271d"/>
                </a:solidFill>
                <a:latin typeface="Arial"/>
                <a:ea typeface="Arial"/>
              </a:rPr>
              <a:t>∞, 2).</a:t>
            </a:r>
            <a:endParaRPr b="0" lang="en-US" sz="3800" spc="-1" strike="noStrike">
              <a:solidFill>
                <a:srgbClr val="61271d"/>
              </a:solidFill>
              <a:latin typeface="Arial"/>
            </a:endParaRPr>
          </a:p>
        </p:txBody>
      </p:sp>
      <p:grpSp>
        <p:nvGrpSpPr>
          <p:cNvPr id="126" name="Group 8"/>
          <p:cNvGrpSpPr/>
          <p:nvPr/>
        </p:nvGrpSpPr>
        <p:grpSpPr>
          <a:xfrm>
            <a:off x="3124080" y="4038480"/>
            <a:ext cx="5810040" cy="2631960"/>
            <a:chOff x="3124080" y="4038480"/>
            <a:chExt cx="5810040" cy="2631960"/>
          </a:xfrm>
        </p:grpSpPr>
        <p:pic>
          <p:nvPicPr>
            <p:cNvPr id="127" name="Picture 6" descr=""/>
            <p:cNvPicPr/>
            <p:nvPr/>
          </p:nvPicPr>
          <p:blipFill>
            <a:blip r:embed="rId1"/>
            <a:stretch/>
          </p:blipFill>
          <p:spPr>
            <a:xfrm>
              <a:off x="3124080" y="4038480"/>
              <a:ext cx="5810040" cy="2631960"/>
            </a:xfrm>
            <a:prstGeom prst="rect">
              <a:avLst/>
            </a:prstGeom>
            <a:ln w="50760">
              <a:solidFill>
                <a:srgbClr val="cd963d"/>
              </a:solidFill>
              <a:miter/>
            </a:ln>
          </p:spPr>
        </p:pic>
        <p:sp>
          <p:nvSpPr>
            <p:cNvPr id="128" name="Rectangle 7"/>
            <p:cNvSpPr/>
            <p:nvPr/>
          </p:nvSpPr>
          <p:spPr>
            <a:xfrm>
              <a:off x="5253840" y="4141800"/>
              <a:ext cx="3659760" cy="123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713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1271d"/>
                </a:solidFill>
                <a:latin typeface="Arial"/>
              </a:rPr>
              <a:t>Then, substitution in the factors </a:t>
            </a:r>
            <a:r>
              <a:rPr b="0" i="1" lang="en-US" sz="3000" spc="-1" strike="noStrike">
                <a:solidFill>
                  <a:srgbClr val="61271d"/>
                </a:solidFill>
                <a:latin typeface="Arial"/>
              </a:rPr>
              <a:t>x –</a:t>
            </a:r>
            <a:r>
              <a:rPr b="0" lang="en-US" sz="3000" spc="-1" strike="noStrike">
                <a:solidFill>
                  <a:srgbClr val="61271d"/>
                </a:solidFill>
                <a:latin typeface="Arial"/>
              </a:rPr>
              <a:t> 2 </a:t>
            </a:r>
            <a:br>
              <a:rPr sz="3000"/>
            </a:br>
            <a:r>
              <a:rPr b="0" lang="en-US" sz="3000" spc="-1" strike="noStrike">
                <a:solidFill>
                  <a:srgbClr val="61271d"/>
                </a:solidFill>
                <a:latin typeface="Arial"/>
              </a:rPr>
              <a:t>and </a:t>
            </a:r>
            <a:r>
              <a:rPr b="0" i="1" lang="en-US" sz="3000" spc="-1" strike="noStrike">
                <a:solidFill>
                  <a:srgbClr val="61271d"/>
                </a:solidFill>
                <a:latin typeface="Arial"/>
              </a:rPr>
              <a:t>x –</a:t>
            </a:r>
            <a:r>
              <a:rPr b="0" lang="en-US" sz="3000" spc="-1" strike="noStrike">
                <a:solidFill>
                  <a:srgbClr val="61271d"/>
                </a:solidFill>
                <a:latin typeface="Arial"/>
              </a:rPr>
              <a:t> 3 gives: </a:t>
            </a:r>
            <a:endParaRPr b="0" lang="en-US" sz="30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000" spc="-1" strike="noStrike">
                <a:solidFill>
                  <a:srgbClr val="61271d"/>
                </a:solidFill>
                <a:latin typeface="Arial"/>
              </a:rPr>
              <a:t> – 2 = 1 – 2 = –1 &lt; 0 </a:t>
            </a:r>
            <a:endParaRPr b="0" lang="en-US" sz="30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1271d"/>
                </a:solidFill>
                <a:latin typeface="Arial"/>
              </a:rPr>
              <a:t>and </a:t>
            </a:r>
            <a:endParaRPr b="0" lang="en-US" sz="30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000" spc="-1" strike="noStrike">
                <a:solidFill>
                  <a:srgbClr val="61271d"/>
                </a:solidFill>
                <a:latin typeface="Arial"/>
              </a:rPr>
              <a:t> – 3 = 1 – 3 = –2 &lt; 0 </a:t>
            </a:r>
            <a:endParaRPr b="0" lang="en-US" sz="30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lnSpc>
                <a:spcPct val="90000"/>
              </a:lnSpc>
              <a:spcBef>
                <a:spcPts val="550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94a37"/>
                </a:solidFill>
                <a:latin typeface="Arial"/>
              </a:rPr>
              <a:t>So, both factors are negative on this interval.</a:t>
            </a:r>
            <a:endParaRPr b="0" lang="en-US" sz="22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lnSpc>
                <a:spcPct val="90000"/>
              </a:lnSpc>
              <a:spcBef>
                <a:spcPts val="550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94a37"/>
                </a:solidFill>
                <a:latin typeface="Arial"/>
              </a:rPr>
              <a:t>Notice that we need to check only one test value for each interval because the factors </a:t>
            </a:r>
            <a:r>
              <a:rPr b="0" i="1" lang="en-US" sz="22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b94a37"/>
                </a:solidFill>
                <a:latin typeface="Arial"/>
              </a:rPr>
              <a:t> – 2 and</a:t>
            </a:r>
            <a:br>
              <a:rPr sz="2200"/>
            </a:br>
            <a:r>
              <a:rPr b="0" i="1" lang="en-US" sz="22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b94a37"/>
                </a:solidFill>
                <a:latin typeface="Arial"/>
              </a:rPr>
              <a:t> – 3 do not change sign on any of the three intervals we found.</a:t>
            </a:r>
            <a:endParaRPr b="0" lang="en-US" sz="22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569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Using the test values </a:t>
            </a:r>
            <a:r>
              <a:rPr b="0" i="1" lang="en-US" sz="34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 = 2½ and </a:t>
            </a:r>
            <a:r>
              <a:rPr b="0" i="1" lang="en-US" sz="3400" spc="-1" strike="noStrike">
                <a:solidFill>
                  <a:srgbClr val="61271d"/>
                </a:solidFill>
                <a:latin typeface="Arial"/>
              </a:rPr>
              <a:t>x = 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4 for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the intervals (2, 3) and (3, 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∞)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, respectively,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we construct the following sign table. 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</p:txBody>
      </p:sp>
      <p:grpSp>
        <p:nvGrpSpPr>
          <p:cNvPr id="133" name="Group 15"/>
          <p:cNvGrpSpPr/>
          <p:nvPr/>
        </p:nvGrpSpPr>
        <p:grpSpPr>
          <a:xfrm>
            <a:off x="3124080" y="4038480"/>
            <a:ext cx="5810400" cy="2632320"/>
            <a:chOff x="3124080" y="4038480"/>
            <a:chExt cx="5810400" cy="2632320"/>
          </a:xfrm>
        </p:grpSpPr>
        <p:pic>
          <p:nvPicPr>
            <p:cNvPr id="134" name="Picture 13" descr=""/>
            <p:cNvPicPr/>
            <p:nvPr/>
          </p:nvPicPr>
          <p:blipFill>
            <a:blip r:embed="rId1"/>
            <a:stretch/>
          </p:blipFill>
          <p:spPr>
            <a:xfrm>
              <a:off x="3124080" y="4038480"/>
              <a:ext cx="5810400" cy="2632320"/>
            </a:xfrm>
            <a:prstGeom prst="rect">
              <a:avLst/>
            </a:prstGeom>
            <a:ln w="50760">
              <a:solidFill>
                <a:srgbClr val="cd963d"/>
              </a:solidFill>
              <a:miter/>
            </a:ln>
          </p:spPr>
        </p:pic>
        <p:sp>
          <p:nvSpPr>
            <p:cNvPr id="135" name="Rectangle 14"/>
            <p:cNvSpPr/>
            <p:nvPr/>
          </p:nvSpPr>
          <p:spPr>
            <a:xfrm>
              <a:off x="3200400" y="4141800"/>
              <a:ext cx="1981080" cy="12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7132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Some problems in algebra lead to inequalities instead of equations. 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An inequality looks just like an equation—except that, in the place of the equal sign </a:t>
            </a:r>
            <a:br>
              <a:rPr sz="3200"/>
            </a:b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is one of these symbols: &lt;, &gt;,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  <a:ea typeface="Arial"/>
              </a:rPr>
              <a:t>≤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, or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  <a:ea typeface="Arial"/>
              </a:rPr>
              <a:t>≥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Here is an example: 4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+ 7 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≤ 19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13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The final row is obtained from the fact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that the expression in the last row is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the product of the two factors.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685800" y="3645000"/>
            <a:ext cx="8244000" cy="303372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569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If you prefer, you can represent that information on a real number line—as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in this sign diagram. 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 vertical lines indicate the points at which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 real line is divided into intervals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rcRect l="2966" t="6825" r="1068" b="12205"/>
          <a:stretch/>
        </p:blipFill>
        <p:spPr>
          <a:xfrm>
            <a:off x="712800" y="4403880"/>
            <a:ext cx="8238960" cy="199224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8536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We read from the table or the diagram that (</a:t>
            </a:r>
            <a:r>
              <a:rPr b="0" i="1" lang="en-US" sz="34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 – 2)(</a:t>
            </a:r>
            <a:r>
              <a:rPr b="0" i="1" lang="en-US" sz="34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 – 3) is negative on the interval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(2, 3). 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rcRect l="2966" t="6825" r="1068" b="12205"/>
          <a:stretch/>
        </p:blipFill>
        <p:spPr>
          <a:xfrm>
            <a:off x="2666880" y="2614680"/>
            <a:ext cx="6270840" cy="151596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  <p:pic>
        <p:nvPicPr>
          <p:cNvPr id="145" name="Picture 5" descr=""/>
          <p:cNvPicPr/>
          <p:nvPr/>
        </p:nvPicPr>
        <p:blipFill>
          <a:blip r:embed="rId2"/>
          <a:stretch/>
        </p:blipFill>
        <p:spPr>
          <a:xfrm>
            <a:off x="2666880" y="4325760"/>
            <a:ext cx="6262920" cy="230364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8536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Thus, the solution of the inequality </a:t>
            </a:r>
            <a:br>
              <a:rPr sz="3600"/>
            </a:b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(</a:t>
            </a:r>
            <a:r>
              <a:rPr b="0" i="1" lang="en-US" sz="36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 – 2)(</a:t>
            </a:r>
            <a:r>
              <a:rPr b="0" i="1" lang="en-US" sz="36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 – 3) 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  <a:ea typeface="Arial"/>
              </a:rPr>
              <a:t>≤ 0 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is: </a:t>
            </a:r>
            <a:br>
              <a:rPr sz="3600"/>
            </a:b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{</a:t>
            </a:r>
            <a:r>
              <a:rPr b="0" i="1" lang="en-US" sz="36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 | 2 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  <a:ea typeface="Arial"/>
              </a:rPr>
              <a:t>≤ </a:t>
            </a:r>
            <a:r>
              <a:rPr b="0" i="1" lang="en-US" sz="3600" spc="-1" strike="noStrike">
                <a:solidFill>
                  <a:srgbClr val="61271d"/>
                </a:solidFill>
                <a:latin typeface="Arial"/>
                <a:ea typeface="Arial"/>
              </a:rPr>
              <a:t>x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  <a:ea typeface="Arial"/>
              </a:rPr>
              <a:t> ≤ 3} = [2, 3]</a:t>
            </a:r>
            <a:endParaRPr b="0" lang="en-US" sz="36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We have included the endpoints 2 and 3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because we seek values of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 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such that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 product is either less than or equal to zero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71320" y="86688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271d"/>
                </a:solidFill>
                <a:latin typeface="Arial"/>
              </a:rPr>
              <a:t>The solution is illustrated here.</a:t>
            </a:r>
            <a:endParaRPr b="0" lang="en-US" sz="44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2943360" y="3672000"/>
            <a:ext cx="5991120" cy="250488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4—Solving an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569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Solve the inequality 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2x</a:t>
            </a:r>
            <a:r>
              <a:rPr b="0" lang="en-US" sz="4000" spc="-1" strike="noStrike" baseline="30000">
                <a:solidFill>
                  <a:srgbClr val="61271d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– x &gt; 1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First, we move all the terms to the left-hand side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2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600" spc="-1" strike="noStrike" baseline="30000">
                <a:solidFill>
                  <a:srgbClr val="b94a37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– x – 1 &gt; 0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Factoring the left side of the inequality, we get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(2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 +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1)(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 –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1) 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&gt;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0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4—Solving an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569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The factors of the left-hand side are</a:t>
            </a:r>
            <a:br>
              <a:rPr sz="4000"/>
            </a:b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2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+ 1 and 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– 1.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se factors are zero when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is –1/2 and 1, respectively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se numbers divide the real line into the intervals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(–∞, –1/2), (–1/2, 1), (1, ∞)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4—Solving an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569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We make the following diagram, using test points to determine the sign of each factor in each interval.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157" name="Picture 5" descr="SRW CA5 ch01_Page_52a"/>
          <p:cNvPicPr/>
          <p:nvPr/>
        </p:nvPicPr>
        <p:blipFill>
          <a:blip r:embed="rId1"/>
          <a:stretch/>
        </p:blipFill>
        <p:spPr>
          <a:xfrm>
            <a:off x="609480" y="4130640"/>
            <a:ext cx="8229600" cy="223848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4—Solving an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8536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From the diagram, we see that</a:t>
            </a:r>
            <a:br>
              <a:rPr sz="3600"/>
            </a:b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(2</a:t>
            </a:r>
            <a:r>
              <a:rPr b="0" i="1" lang="en-US" sz="36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 + 1)(</a:t>
            </a:r>
            <a:r>
              <a:rPr b="0" i="1" lang="en-US" sz="36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 – 1) &gt; 0</a:t>
            </a:r>
            <a:endParaRPr b="0" lang="en-US" sz="36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for </a:t>
            </a:r>
            <a:r>
              <a:rPr b="0" i="1" lang="en-US" sz="36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 in the interval (–∞, –1/2) or (1, ∞).</a:t>
            </a:r>
            <a:endParaRPr b="0" lang="en-US" sz="36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751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So the solution set is the union of these two intervals:</a:t>
            </a:r>
            <a:br>
              <a:rPr sz="3000"/>
            </a:b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(–∞, –1/2)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U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(1, ∞)</a:t>
            </a:r>
            <a:endParaRPr b="0" lang="en-US" sz="30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4—Solving an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71320" y="86688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271d"/>
                </a:solidFill>
                <a:latin typeface="Arial"/>
              </a:rPr>
              <a:t>The solution is illustrated here.</a:t>
            </a:r>
            <a:endParaRPr b="0" lang="en-US" sz="44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162" name="Picture 5" descr="SRW CA5 ch01_Page_52"/>
          <p:cNvPicPr/>
          <p:nvPr/>
        </p:nvPicPr>
        <p:blipFill>
          <a:blip r:embed="rId1"/>
          <a:stretch/>
        </p:blipFill>
        <p:spPr>
          <a:xfrm>
            <a:off x="2895480" y="3657600"/>
            <a:ext cx="6096240" cy="191448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713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The table shows that some numbers satisfy the inequality and some numbers don’t.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4081320" y="3187800"/>
            <a:ext cx="4842000" cy="350496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92468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5—Solving an Inequality with Repeated Factor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569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Solve the inequality 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(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– 1)</a:t>
            </a:r>
            <a:r>
              <a:rPr b="0" lang="en-US" sz="4000" spc="-1" strike="noStrike" baseline="30000">
                <a:solidFill>
                  <a:srgbClr val="61271d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(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– 3) &lt; 0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lnSpc>
                <a:spcPct val="90000"/>
              </a:lnSpc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All nonzero terms are already on one side of the inequality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lnSpc>
                <a:spcPct val="90000"/>
              </a:lnSpc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Also, the nonzero side of the inequality is already factored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lnSpc>
                <a:spcPct val="90000"/>
              </a:lnSpc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So we begin by finding the intervals for this inequality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5—Solving an Inequality with Repeated Factor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569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The factors of the left-hand side are</a:t>
            </a:r>
            <a:br>
              <a:rPr sz="4000"/>
            </a:b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, (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– 1)</a:t>
            </a:r>
            <a:r>
              <a:rPr b="0" lang="en-US" sz="4000" spc="-1" strike="noStrike" baseline="30000">
                <a:solidFill>
                  <a:srgbClr val="61271d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, and 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– 3.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se factors are zero when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= 0, 1, 3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se numbers divide the real line into the intervals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(–∞, 0), (0, 1), (1, 3), (3, ∞)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5—Solving an Inequality with Repeated Factor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569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We make the following diagram, using test points to determine the sign of each factor in each interval.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169" name="Picture 5" descr="SRW CA5 ch01_Page_53a"/>
          <p:cNvPicPr/>
          <p:nvPr/>
        </p:nvPicPr>
        <p:blipFill>
          <a:blip r:embed="rId1"/>
          <a:stretch/>
        </p:blipFill>
        <p:spPr>
          <a:xfrm>
            <a:off x="762120" y="4114800"/>
            <a:ext cx="7924680" cy="224172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5—Solving an Inequality with Repeated Factor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8536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From the diagram, we see that</a:t>
            </a:r>
            <a:br>
              <a:rPr sz="3600"/>
            </a:b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(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– 1)</a:t>
            </a:r>
            <a:r>
              <a:rPr b="0" lang="en-US" sz="4000" spc="-1" strike="noStrike" baseline="30000">
                <a:solidFill>
                  <a:srgbClr val="61271d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(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– 3) &lt; 0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for </a:t>
            </a:r>
            <a:r>
              <a:rPr b="0" i="1" lang="en-US" sz="36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 in the interval (0, 1) or (1, 3).</a:t>
            </a:r>
            <a:endParaRPr b="0" lang="en-US" sz="36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751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So the solution set is the union of these two intervals:</a:t>
            </a:r>
            <a:br>
              <a:rPr sz="3000"/>
            </a:b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(0, 1)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U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(1, 3)</a:t>
            </a:r>
            <a:endParaRPr b="0" lang="en-US" sz="30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5—Solving an Inequality with Repeated Factor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71320" y="86688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271d"/>
                </a:solidFill>
                <a:latin typeface="Arial"/>
              </a:rPr>
              <a:t>The solution is illustrated here.</a:t>
            </a:r>
            <a:endParaRPr b="0" lang="en-US" sz="44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174" name="Picture 5" descr="SRW CA5 ch01_Page_53"/>
          <p:cNvPicPr/>
          <p:nvPr/>
        </p:nvPicPr>
        <p:blipFill>
          <a:blip r:embed="rId1"/>
          <a:stretch/>
        </p:blipFill>
        <p:spPr>
          <a:xfrm>
            <a:off x="2895480" y="3657600"/>
            <a:ext cx="6096240" cy="173052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6—An Inequality Involving a Quotient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42520" y="82404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1271d"/>
                </a:solidFill>
                <a:latin typeface="Arial"/>
              </a:rPr>
              <a:t>Solve:</a:t>
            </a:r>
            <a:endParaRPr b="0" lang="en-US" sz="48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First, we move all nonzero terms to the left side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n, we simplify using a common denominator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  <p:graphicFrame>
        <p:nvGraphicFramePr>
          <p:cNvPr id="177" name="Object 4"/>
          <p:cNvGraphicFramePr/>
          <p:nvPr/>
        </p:nvGraphicFramePr>
        <p:xfrm>
          <a:off x="3476520" y="1300320"/>
          <a:ext cx="2362320" cy="162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76520" y="1300320"/>
                    <a:ext cx="2362320" cy="16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6—An Inequality Involving a Quotient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graphicFrame>
        <p:nvGraphicFramePr>
          <p:cNvPr id="180" name="Object 5"/>
          <p:cNvGraphicFramePr/>
          <p:nvPr/>
        </p:nvGraphicFramePr>
        <p:xfrm>
          <a:off x="596880" y="1014480"/>
          <a:ext cx="8380440" cy="466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6880" y="1014480"/>
                    <a:ext cx="8380440" cy="46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6—An Inequality Involving a Quotient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graphicFrame>
        <p:nvGraphicFramePr>
          <p:cNvPr id="183" name="Object 3"/>
          <p:cNvGraphicFramePr/>
          <p:nvPr/>
        </p:nvGraphicFramePr>
        <p:xfrm>
          <a:off x="914400" y="1249200"/>
          <a:ext cx="6767640" cy="26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249200"/>
                    <a:ext cx="6767640" cy="26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85360" y="4038480"/>
            <a:ext cx="84582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The factors of the left-hand side are 2</a:t>
            </a:r>
            <a:r>
              <a:rPr b="0" i="1" lang="en-US" sz="24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 and 1 – </a:t>
            </a:r>
            <a:r>
              <a:rPr b="0" i="1" lang="en-US" sz="24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These are zero when </a:t>
            </a:r>
            <a:r>
              <a:rPr b="0" i="1" lang="en-US" sz="24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 is 0 and 1.</a:t>
            </a:r>
            <a:endParaRPr b="0" lang="en-US" sz="24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These numbers divide the real line into the intervals</a:t>
            </a:r>
            <a:br>
              <a:rPr sz="2400"/>
            </a:b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(–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  <a:ea typeface="Arial"/>
              </a:rPr>
              <a:t>∞, 0), (0, 1), (1, ∞)</a:t>
            </a:r>
            <a:endParaRPr b="0" lang="en-US" sz="24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6—An Inequality Involving a Quotient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569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We make the following diagram using test points to determine the sign of each factor in each interval.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700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We see that the solution set is: </a:t>
            </a:r>
            <a:br>
              <a:rPr sz="2800"/>
            </a:b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  <a:ea typeface="Arial"/>
              </a:rPr>
              <a:t>[0, 1)</a:t>
            </a: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1"/>
          <a:srcRect l="1031" t="0" r="0" b="2541"/>
          <a:stretch/>
        </p:blipFill>
        <p:spPr>
          <a:xfrm>
            <a:off x="723960" y="4586400"/>
            <a:ext cx="8267760" cy="194616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6—An Inequality Involving a Quotient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7132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We include the endpoint 0 as the original inequality requires the quotient to be greater than or equal to 1.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However, we do not include the endpoint 1, since the quotient in the inequality is not defined at 1.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lnSpc>
                <a:spcPct val="90000"/>
              </a:lnSpc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Always check the endpoints of solution intervals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o determine whether they satisfy the original inequality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Solving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To solve an inequality that contains a variable means to find all values of the variable that make the inequality true. 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Unlike an equation, an inequality generally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has infinitely many solutions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se form an interval or a union of intervals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on the real line. 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6—An Inequality Involving a Quotient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71320" y="86688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1271d"/>
                </a:solidFill>
                <a:latin typeface="Arial"/>
              </a:rPr>
              <a:t>The solution set [0, 1) is illustrated here.</a:t>
            </a:r>
            <a:endParaRPr b="0" lang="en-US" sz="42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193" name="Picture 5" descr=""/>
          <p:cNvPicPr/>
          <p:nvPr/>
        </p:nvPicPr>
        <p:blipFill>
          <a:blip r:embed="rId1"/>
          <a:stretch/>
        </p:blipFill>
        <p:spPr>
          <a:xfrm>
            <a:off x="2614680" y="3933720"/>
            <a:ext cx="6305400" cy="265752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805040" y="3057120"/>
            <a:ext cx="7338960" cy="10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94a37"/>
                </a:solidFill>
                <a:latin typeface="Arial"/>
              </a:rPr>
              <a:t>Modeling with Inequalities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Modeling with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569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1271d"/>
                </a:solidFill>
                <a:latin typeface="Arial"/>
              </a:rPr>
              <a:t>Modeling real-life problems frequently leads to inequalities.</a:t>
            </a:r>
            <a:endParaRPr b="0" lang="en-US" sz="38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700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We are often interested in determining when one quantity is more (or less) than another.  </a:t>
            </a: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7—Carnival Ticket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32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A carnival has two plans for tickets. 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Plan A:  $5 entrance fee and 25¢ each ride 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Plan B: $2 entrance fee and 50¢ each ride  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How many rides would you have to take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for plan A to be less expensive than plan B?  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7—Carnival Ticket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8536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We are asked for the number of rides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for which plan A is less expensive than plan B. 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751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So, let: </a:t>
            </a:r>
            <a:br>
              <a:rPr sz="3000"/>
            </a:b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b94a37"/>
                </a:solidFill>
                <a:latin typeface="Arial"/>
              </a:rPr>
              <a:t>x =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 number of rides</a:t>
            </a:r>
            <a:endParaRPr b="0" lang="en-US" sz="30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7—Carnival Ticket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8536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The information in the problem may be organized as follows.</a:t>
            </a:r>
            <a:endParaRPr b="0" lang="en-US" sz="3600" spc="-1" strike="noStrike">
              <a:solidFill>
                <a:srgbClr val="61271d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2971800" y="2743200"/>
          <a:ext cx="5915160" cy="3900600"/>
        </p:xfrm>
        <a:graphic>
          <a:graphicData uri="http://schemas.openxmlformats.org/drawingml/2006/table">
            <a:tbl>
              <a:tblPr/>
              <a:tblGrid>
                <a:gridCol w="2957400"/>
                <a:gridCol w="2957760"/>
              </a:tblGrid>
              <a:tr h="95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61271d"/>
                          </a:solidFill>
                          <a:latin typeface="Arial"/>
                        </a:rPr>
                        <a:t>In Words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d963d"/>
                      </a:solidFill>
                    </a:lnL>
                    <a:lnR w="5760">
                      <a:solidFill>
                        <a:srgbClr val="cd963d"/>
                      </a:solidFill>
                    </a:lnR>
                    <a:lnT w="28080">
                      <a:solidFill>
                        <a:srgbClr val="cd963d"/>
                      </a:solidFill>
                    </a:lnT>
                    <a:lnB w="5760">
                      <a:solidFill>
                        <a:srgbClr val="cd96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61271d"/>
                          </a:solidFill>
                          <a:latin typeface="Arial"/>
                        </a:rPr>
                        <a:t>In Algebra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d963d"/>
                      </a:solidFill>
                    </a:lnL>
                    <a:lnR w="28080">
                      <a:solidFill>
                        <a:srgbClr val="cd963d"/>
                      </a:solidFill>
                    </a:lnR>
                    <a:lnT w="28080">
                      <a:solidFill>
                        <a:srgbClr val="cd963d"/>
                      </a:solidFill>
                    </a:lnT>
                    <a:lnB w="5760">
                      <a:solidFill>
                        <a:srgbClr val="cd963d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94a37"/>
                          </a:solidFill>
                          <a:latin typeface="Arial"/>
                        </a:rPr>
                        <a:t>Number of ri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d963d"/>
                      </a:solidFill>
                    </a:lnL>
                    <a:lnR w="5760">
                      <a:solidFill>
                        <a:srgbClr val="cd963d"/>
                      </a:solidFill>
                    </a:lnR>
                    <a:lnT w="5760">
                      <a:solidFill>
                        <a:srgbClr val="cd963d"/>
                      </a:solidFill>
                    </a:lnT>
                    <a:lnB w="5760">
                      <a:solidFill>
                        <a:srgbClr val="cd96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b94a37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d963d"/>
                      </a:solidFill>
                    </a:lnL>
                    <a:lnR w="28080">
                      <a:solidFill>
                        <a:srgbClr val="cd963d"/>
                      </a:solidFill>
                    </a:lnR>
                    <a:lnT w="5760">
                      <a:solidFill>
                        <a:srgbClr val="cd963d"/>
                      </a:solidFill>
                    </a:lnT>
                    <a:lnB w="5760">
                      <a:solidFill>
                        <a:srgbClr val="cd963d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94a37"/>
                          </a:solidFill>
                          <a:latin typeface="Arial"/>
                        </a:rPr>
                        <a:t>Cost with Plan 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d963d"/>
                      </a:solidFill>
                    </a:lnL>
                    <a:lnR w="5760">
                      <a:solidFill>
                        <a:srgbClr val="cd963d"/>
                      </a:solidFill>
                    </a:lnR>
                    <a:lnT w="5760">
                      <a:solidFill>
                        <a:srgbClr val="cd963d"/>
                      </a:solidFill>
                    </a:lnT>
                    <a:lnB w="5760">
                      <a:solidFill>
                        <a:srgbClr val="cd96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94a37"/>
                          </a:solidFill>
                          <a:latin typeface="Arial"/>
                        </a:rPr>
                        <a:t>5 + 0.25</a:t>
                      </a:r>
                      <a:r>
                        <a:rPr b="0" i="1" lang="en-US" sz="2800" spc="-1" strike="noStrike">
                          <a:solidFill>
                            <a:srgbClr val="b94a37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d963d"/>
                      </a:solidFill>
                    </a:lnL>
                    <a:lnR w="28080">
                      <a:solidFill>
                        <a:srgbClr val="cd963d"/>
                      </a:solidFill>
                    </a:lnR>
                    <a:lnT w="5760">
                      <a:solidFill>
                        <a:srgbClr val="cd963d"/>
                      </a:solidFill>
                    </a:lnT>
                    <a:lnB w="5760">
                      <a:solidFill>
                        <a:srgbClr val="cd963d"/>
                      </a:solidFill>
                    </a:lnB>
                    <a:noFill/>
                  </a:tcPr>
                </a:tc>
              </a:tr>
              <a:tr h="98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94a37"/>
                          </a:solidFill>
                          <a:latin typeface="Arial"/>
                        </a:rPr>
                        <a:t>Cost with Plan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d963d"/>
                      </a:solidFill>
                    </a:lnL>
                    <a:lnR w="5760">
                      <a:solidFill>
                        <a:srgbClr val="cd963d"/>
                      </a:solidFill>
                    </a:lnR>
                    <a:lnT w="5760">
                      <a:solidFill>
                        <a:srgbClr val="cd963d"/>
                      </a:solidFill>
                    </a:lnT>
                    <a:lnB w="28080">
                      <a:solidFill>
                        <a:srgbClr val="cd96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94a37"/>
                          </a:solidFill>
                          <a:latin typeface="Arial"/>
                        </a:rPr>
                        <a:t>2 + 0.50</a:t>
                      </a:r>
                      <a:r>
                        <a:rPr b="0" i="1" lang="en-US" sz="2800" spc="-1" strike="noStrike">
                          <a:solidFill>
                            <a:srgbClr val="b94a37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d963d"/>
                      </a:solidFill>
                    </a:lnL>
                    <a:lnR w="28080">
                      <a:solidFill>
                        <a:srgbClr val="cd963d"/>
                      </a:solidFill>
                    </a:lnR>
                    <a:lnT w="5760">
                      <a:solidFill>
                        <a:srgbClr val="cd963d"/>
                      </a:solidFill>
                    </a:lnT>
                    <a:lnB w="28080">
                      <a:solidFill>
                        <a:srgbClr val="cd963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7—Carnival Ticket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56920" y="9525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Now, we set up the model.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Cost with plan A &lt; Cost with plan B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5 + 0.25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 &lt;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2 + 0.50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3 + 0.25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 &lt;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0.50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(Subtract 2)</a:t>
            </a:r>
            <a:endParaRPr b="0" lang="en-US" sz="24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3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&lt; 0.25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(Subtract 0.25</a:t>
            </a:r>
            <a:r>
              <a:rPr b="0" i="1" lang="en-US" sz="24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12 &lt; 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(Divide by 0.25)</a:t>
            </a:r>
            <a:endParaRPr b="0" lang="en-US" sz="2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So, if you plan to take more than 12 rides,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plan A is less expensive.</a:t>
            </a:r>
            <a:endParaRPr b="0" lang="en-US" sz="2600" spc="-1" strike="noStrike">
              <a:solidFill>
                <a:srgbClr val="a2742a"/>
              </a:solidFill>
              <a:latin typeface="Arial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1371600" y="2209680"/>
            <a:ext cx="6705720" cy="685800"/>
          </a:xfrm>
          <a:prstGeom prst="rect">
            <a:avLst/>
          </a:prstGeom>
          <a:noFill/>
          <a:ln w="22320">
            <a:solidFill>
              <a:srgbClr val="cd96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8—Fahrenheit and Celsius Scal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713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The instructions on a box of film indicate that the box should be stored at a temperature between 5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°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C and 30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°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C. 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700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What range of temperatures does this correspond to on the Fahrenheit scale?</a:t>
            </a: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8—Fahrenheit and Celsius Scal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713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The relationship between degrees Celsius (</a:t>
            </a:r>
            <a:r>
              <a:rPr b="0" i="1" lang="en-US" sz="3400" spc="-1" strike="noStrike">
                <a:solidFill>
                  <a:srgbClr val="61271d"/>
                </a:solidFill>
                <a:latin typeface="Arial"/>
              </a:rPr>
              <a:t>C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) and degrees Fahrenheit (</a:t>
            </a:r>
            <a:r>
              <a:rPr b="0" i="1" lang="en-US" sz="3400" spc="-1" strike="noStrike">
                <a:solidFill>
                  <a:srgbClr val="61271d"/>
                </a:solidFill>
                <a:latin typeface="Arial"/>
              </a:rPr>
              <a:t>F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) is given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by: 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61271d"/>
                </a:solidFill>
                <a:latin typeface="Arial"/>
              </a:rPr>
              <a:t>C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 = 5/9(</a:t>
            </a:r>
            <a:r>
              <a:rPr b="0" i="1" lang="en-US" sz="3400" spc="-1" strike="noStrike">
                <a:solidFill>
                  <a:srgbClr val="61271d"/>
                </a:solidFill>
                <a:latin typeface="Arial"/>
              </a:rPr>
              <a:t>F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 – 32) 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Expressing the statement on the box in terms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of inequalities, we have: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5 &lt;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C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&lt; 30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8—Fahrenheit and Celsius Scal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569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So, the corresponding Fahrenheit temperatures satisfy the inequalities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</p:txBody>
      </p:sp>
      <p:graphicFrame>
        <p:nvGraphicFramePr>
          <p:cNvPr id="213" name="Object 4"/>
          <p:cNvGraphicFramePr/>
          <p:nvPr/>
        </p:nvGraphicFramePr>
        <p:xfrm>
          <a:off x="614520" y="2576520"/>
          <a:ext cx="7162560" cy="368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2576520"/>
                    <a:ext cx="7162560" cy="36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Solving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3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The following illustration shows how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an inequality differs from its corresponding equation: 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rcRect l="1504" t="0" r="0" b="7773"/>
          <a:stretch/>
        </p:blipFill>
        <p:spPr>
          <a:xfrm>
            <a:off x="722160" y="3828960"/>
            <a:ext cx="8186760" cy="154332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8—Fahrenheit and Celsius Scal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8536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Thus, the film should be stored at </a:t>
            </a:r>
            <a:br>
              <a:rPr sz="3600"/>
            </a:b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a temperature between 41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  <a:ea typeface="Arial"/>
              </a:rPr>
              <a:t>°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F and 86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  <a:ea typeface="Arial"/>
              </a:rPr>
              <a:t>°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F.</a:t>
            </a:r>
            <a:endParaRPr b="0" lang="en-US" sz="36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217" name="Picture 5" descr="SRW CA5 ch01_Page_55"/>
          <p:cNvPicPr/>
          <p:nvPr/>
        </p:nvPicPr>
        <p:blipFill>
          <a:blip r:embed="rId1"/>
          <a:stretch/>
        </p:blipFill>
        <p:spPr>
          <a:xfrm>
            <a:off x="5378400" y="2438280"/>
            <a:ext cx="3513240" cy="411480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Solving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713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To solve inequalities, we use the following rules to isolate the variable on one side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of the inequality sign. 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se rules tell us when two inequalities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are equivalent (      means “is equivalent to”). 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In these rules, the symbols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A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,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B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, and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C 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stand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for real numbers or algebraic expressions. 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  <p:graphicFrame>
        <p:nvGraphicFramePr>
          <p:cNvPr id="63" name="Object 4"/>
          <p:cNvGraphicFramePr/>
          <p:nvPr/>
        </p:nvGraphicFramePr>
        <p:xfrm>
          <a:off x="3651120" y="3933720"/>
          <a:ext cx="606600" cy="42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1120" y="3933720"/>
                    <a:ext cx="60660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Solving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569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Here, we state the rules for inequalities involving the symbol 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≤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. 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01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However, they apply to all four inequality symbols. </a:t>
            </a:r>
            <a:endParaRPr b="0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685800" y="2739960"/>
            <a:ext cx="8259840" cy="395136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7T11:34:24Z</dcterms:created>
  <dc:creator>aa</dc:creator>
  <dc:description/>
  <dc:language>en-US</dc:language>
  <cp:lastModifiedBy>LEGION</cp:lastModifiedBy>
  <dcterms:modified xsi:type="dcterms:W3CDTF">2017-07-06T06:31:18Z</dcterms:modified>
  <cp:revision>636</cp:revision>
  <dc:subject/>
  <dc:title>Slide 1</dc:title>
</cp:coreProperties>
</file>